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EE9-EBF0-433B-A01D-35CD3629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9C4-D85C-4E77-92F1-A558B18D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C5D-D2A9-4BD3-B69C-40A70EB5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C98-843B-45CC-B31A-4836A5DF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5FCD-F0BF-4571-81B5-C1EE878F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C81C-E316-41D1-9203-AEFCE6A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8205-5AF9-4FD2-B317-C14C198C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4487-F98F-4D0D-8AE2-5E2D9B4D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4CE3-6E2E-48BB-993C-F5742B99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C78A-607A-4C48-90FF-540CC4F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2098-2E1B-4C84-A953-39F19E9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2B2-25E9-4988-A084-C1609A4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CDCF-4855-407D-B08C-B4F7216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1679-C311-4644-9BE8-33F9447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AACE-5F43-4ED2-B00A-D825C118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A6D4-31FF-48F1-AED0-C93ED0F7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EB90-6040-4E18-A776-29552944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375-0619-4935-9767-A93259D4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B07-7928-4D13-951E-42D26A39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404-7FCA-44D2-A793-9810346A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B47-F270-4807-9389-6614CBF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6AE-A221-467D-82D6-B4B1FC13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FDA-ECCE-4437-A673-70B70BB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C46-5930-4675-9460-FA5E3C5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401-D698-44A8-AB87-9455468B7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8AA-BE25-4A29-9209-DB1A22A2B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ct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ct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ct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Numbers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2360" y="1447920"/>
          <a:ext cx="529128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447920"/>
                    <a:ext cx="529128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1080" y="1447920"/>
          <a:ext cx="54356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447920"/>
                    <a:ext cx="54356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38240" y="1447920"/>
          <a:ext cx="371808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1447920"/>
                    <a:ext cx="371808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1120" y="1447920"/>
          <a:ext cx="443376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447920"/>
                    <a:ext cx="443376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11400" y="1590840"/>
          <a:ext cx="1573200" cy="214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1400" y="1590840"/>
                    <a:ext cx="1573200" cy="21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897200" y="1590840"/>
          <a:ext cx="2001600" cy="214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7200" y="1590840"/>
                    <a:ext cx="2001600" cy="21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9560" y="1590840"/>
          <a:ext cx="2575080" cy="214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1590840"/>
                    <a:ext cx="2575080" cy="21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1676520"/>
          <a:ext cx="54356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676520"/>
                    <a:ext cx="54356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71600" y="1676520"/>
          <a:ext cx="157320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676520"/>
                    <a:ext cx="15732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71560" y="1676520"/>
          <a:ext cx="643716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1560" y="1676520"/>
                    <a:ext cx="643716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0" y="2133720"/>
          <a:ext cx="500688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133720"/>
                    <a:ext cx="50068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28880" y="2062080"/>
          <a:ext cx="5721120" cy="18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2062080"/>
                    <a:ext cx="57211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00080" y="1776240"/>
          <a:ext cx="7580520" cy="24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776240"/>
                    <a:ext cx="758052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2362320"/>
          <a:ext cx="8915400" cy="19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9154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373480" y="2651040"/>
          <a:ext cx="416844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2651040"/>
                    <a:ext cx="41684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1480" y="2362320"/>
          <a:ext cx="6832440" cy="196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2362320"/>
                    <a:ext cx="683244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3520" y="2590920"/>
          <a:ext cx="8331120" cy="168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590920"/>
                    <a:ext cx="8331120" cy="16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913120" y="2541600"/>
          <a:ext cx="3570120" cy="17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3120" y="2541600"/>
                    <a:ext cx="357012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16120" y="2541600"/>
          <a:ext cx="4165560" cy="17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6120" y="2541600"/>
                    <a:ext cx="416556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85760" y="1676520"/>
          <a:ext cx="214632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676520"/>
                    <a:ext cx="2146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021040" y="2244600"/>
          <a:ext cx="5356080" cy="238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1040" y="2244600"/>
                    <a:ext cx="53560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80920" y="2543040"/>
          <a:ext cx="7637760" cy="17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0920" y="2543040"/>
                    <a:ext cx="76377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666880"/>
          <a:ext cx="7620120" cy="16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666880"/>
                    <a:ext cx="762012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895480" y="2362320"/>
          <a:ext cx="234972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362320"/>
                    <a:ext cx="234972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860560" y="2362320"/>
          <a:ext cx="242100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60560" y="2362320"/>
                    <a:ext cx="242100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57400" y="1676520"/>
          <a:ext cx="200160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7400" y="1676520"/>
                    <a:ext cx="20016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57400" y="1676520"/>
          <a:ext cx="200160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7400" y="1676520"/>
                    <a:ext cx="20016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5760" y="1676520"/>
          <a:ext cx="214632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676520"/>
                    <a:ext cx="2146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5760" y="1676520"/>
          <a:ext cx="214632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676520"/>
                    <a:ext cx="2146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03:19Z</dcterms:created>
  <dc:creator>Parkland High School</dc:creator>
  <dc:description/>
  <dc:language>en-US</dc:language>
  <cp:lastModifiedBy>Parkland High School</cp:lastModifiedBy>
  <dcterms:modified xsi:type="dcterms:W3CDTF">2011-11-01T12:35:44Z</dcterms:modified>
  <cp:revision>3</cp:revision>
  <dc:subject/>
  <dc:title>Complex Numbers    </dc:title>
</cp:coreProperties>
</file>